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FBD1-E5DB-4934-873E-F9CCC069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5A58-67A8-45DE-8762-05C0ECEFA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841-8321-484C-BE2F-7F1D897D6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E9EB-830C-49E6-A022-9DE0F37CA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51BE-1A1D-4DF2-ACFC-CA3B5AC4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9460F-D707-46BD-BD25-5DF2E430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2908-FD44-417E-9284-67E81189C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4D9C7-4185-4519-8F0D-5F089960F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098F-9DFD-43BA-B3C9-9C812C3D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DEE17-8AF4-4EDD-A699-A4F8581E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7C5E-EB44-4A30-826B-117D2E46E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486E-3FA5-4099-A9EE-E1DE7431F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5D880-C11B-4C6F-940E-8989F1E1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502D-D9F7-4F27-A269-139B22C9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DE45-E432-48A4-85D2-9D62FFCE8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C813-466D-4A20-A700-D8560824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C549B-817F-4388-AA81-7CD54456A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8817-9013-4ACE-A623-63172905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0AC-025C-4287-99EF-10C3561AF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B29-7056-43F2-B64C-6166AD826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2CD8-B5BA-4D93-84F2-ACDF1768E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F154-39DD-448F-9AA1-F16035A2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7A69-F24C-4493-B718-67E4205A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4D8-C162-4F4A-98C4-42E2F0F5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468a4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2161-B308-4A0E-9652-8AEB56D81784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3ebf1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3ebf1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3ebf1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3ebf1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AC399-6750-4AF3-BE21-320532C90E37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468a4b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f0e5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3ebf1"/>
                </a:solidFill>
                <a:uFillTx/>
                <a:latin typeface="Monotype Corsiva"/>
              </a:rPr>
              <a:t>Special &amp; Vulnerab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Global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Sea Lev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12:31Z</dcterms:created>
  <dc:creator>PA Department of Education</dc:creator>
  <dc:description/>
  <dc:language>en-US</dc:language>
  <cp:lastModifiedBy>PA Department of Education</cp:lastModifiedBy>
  <dcterms:modified xsi:type="dcterms:W3CDTF">2009-05-21T16:39:36Z</dcterms:modified>
  <cp:revision>1</cp:revision>
  <dc:subject/>
  <dc:title>Special &amp; Vulnerable</dc:title>
</cp:coreProperties>
</file>